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5A9-0A8F-4F26-8ED3-0FD397A9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2BE-A751-4F53-A9B6-52D5318D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3C266-B222-4D03-95C0-ED634318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B80A4-9CAA-4824-BDA6-0F02D550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39FF7-DE60-4464-8151-FEC509DD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216FE-8F52-441D-B017-69239603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0ECDF-BBB3-4A51-B7C9-DEC7782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D84CE-CB5C-4FAC-964E-2AA4B87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C35FB-9A0C-4919-ACE2-72E93902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4821B-6041-4278-900C-F9B2F3EA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F2148-4DB1-4858-9653-C29A4295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0A889-781E-45E5-A93E-84CD2F54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F00-3373-4E02-A34D-897A6813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614B1-B6BD-48D1-8B6A-144F20BF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B7387-1DFF-4CA6-B832-4D8E5E86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67531-A034-4FE9-80BB-2E33DFF5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7CAB6-4BD6-407D-8DD3-00B1F052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63D61-4B81-4291-B527-424E5B3B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F8F12-3453-433C-948D-9CB0EA97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9D880-BD22-46D5-828B-373A2F51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9762D-3CEC-48A5-93BB-B260FF2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23B1C-0E45-420C-8D45-CB6B98B6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24B71-482A-48F4-8CCA-6F925BB7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1A0-CFAD-4451-A15E-46B20AB2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9BCA4-02A2-4F69-9B76-ED32C40C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E861-11E9-4D27-9349-0B8DF3DE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92194-9906-48AA-B33F-6B555E32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9EE58-4CD3-440A-9A0B-303EF115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317C9-9E92-40E9-87B9-A0E04F8A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C1341-EB16-4CAF-8D5A-9CB06C28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73396-8DCF-42DA-B872-E41A2E26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CA732-C907-4215-96C7-9A40F1B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BCCCB-4E04-4E5C-A6B7-7DEB4B1A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6BB38-5E8F-4680-BB86-6B28D6CC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DD7F-62B8-4793-B076-F20748D2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63D42-1822-4CDF-BBD6-1F5749C9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1FB82-5FD4-4E52-BE45-F90454B0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29692-2381-4E50-987C-91649F92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C99ED-CDBF-4403-B872-2B473564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C9BD7-3B18-4126-BA6B-5A5DEEA6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02AC3-7631-43C3-89E2-D2812193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52361-0CF7-475E-83FE-236C9047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E1476-9D57-461F-932A-278F1322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59682-C072-489E-BEBE-8B959BD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0A41E-9659-4933-BF45-4439F3C6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BE2-27C9-447B-B5C8-2E29D7BC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DC173-BA83-42F8-A01B-4BA4883A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D980F-7B27-4572-8217-83D48DD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00214-03BA-4779-9280-93245D9E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8ABC4-3C68-434B-9E21-6D290BAE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E482C-DD03-4380-9A37-AFEF27E4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7A06D-1AC4-475D-964A-6C97B5F9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3A920-823C-4F83-83DA-90C84107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ECE08-B550-4B2E-A214-D6E1FDD7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74556-EAA3-47E2-930A-D2FD9BC2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4BBBD-4443-4F4D-83D0-39FE2225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DE1C-8B20-4DAF-A478-45B8D9CF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369DB-F584-4A58-A653-76CD626A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1F14E-B9F4-429F-919B-B85FFF10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6CE82-D493-4028-90E3-7029255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7D9A2-C1D4-4A81-A2CB-054B591D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33182-0394-48C2-8C80-A34D3F2C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2875E-F17F-42BA-B227-0000CBDF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BB97C-6DC5-4C49-A175-58922AF5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46EE4-96F6-417A-BFB7-1C804F7F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A2942-47AB-4A71-9018-ADEED7E8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2B497-4A90-4104-875C-59E438F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E28E-1EB1-4477-A49F-6C182F49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0998A-D030-486D-9B3C-23FB1B5E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E3E7D-4609-4D4E-BC0F-586C8634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7EF34-8FC4-4A4F-B910-097CD610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F54C4-BE5D-42A3-87A8-4FD33D9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8EF93-DC97-4547-92A8-EC4E3D17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F5B6C-0F0A-4CDF-86AF-A5876A8C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189E2-F7DC-4BA0-A121-A2558D36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856FB-2478-4059-850F-A67DCB54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E8843-85DC-49F5-A821-D9FD33A5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CAAD1-137E-4990-BF40-3B4B1340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6BD-0782-4273-9C0C-9D7572C0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BBADB-E2EB-4CC5-A356-144774EF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A06F3-8C03-4740-836E-A9F534B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C5941-7AAF-463A-A594-338927BF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42C16-983E-4D54-831F-86407578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47441-7E7B-40F0-8B29-B68490A9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FBFB6-5C1F-42BD-80D9-CFFF02DF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301CE-7BB5-48F2-A24A-2A593CD3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E2A8D-05E8-4D80-8A3F-D4173CF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83F89-B79F-43F6-B6ED-918AD388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C689E-FB7C-4389-A665-5B2A5723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D65-4CCB-4727-B073-F8A70CA1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E58FC-CCE0-4FC1-AA72-C385A368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011B7-CEF8-4965-A2DA-E92A976B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E3B36-01A4-4EA0-8680-8997DFEA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6756F3-48CE-4224-BFF7-EF542034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75185-FCA2-4E89-BD68-0261E009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9CFA4E-FF6D-4E31-ACB1-D2419F4A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B64C1-810A-4A55-9AB3-2BD7E1C4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A1C0F-0C84-4CF4-AA84-9747196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36771-791B-486A-ACFB-921F3D7D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4B58AC-BB65-48CE-9022-C3AA424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2C18-27F3-46DF-AF96-B72AC588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E216D-3F72-40DE-A2D9-BE1985DD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760F4-ABB9-42F9-BD8D-B3168C06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8B55A-9871-440B-A87C-5C642DE3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39B12-C283-47C7-87B7-1045E211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39D561-CAFD-4B73-AE5C-494E6C78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EEB03-6C44-4AB2-A109-3FBD8C9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1FD5C-AB53-41C8-8505-3BE7E94D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FE503-EDF7-43E6-9C67-247C8F9E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16140-03FD-49BE-905C-4AA7FC6B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0E7A4-9E4F-45C3-9A89-8F0608DB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E74-BC55-469C-A1DA-ECB7EE54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4EF3-FAF6-4351-A967-6812CE6A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54CE0-2837-4BD7-92CC-7D8817F0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C0291-7BCE-4127-841C-1601C91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9A3B1-3042-4273-B87E-819D5E2E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845D6-DC54-418B-BFF7-C05E7280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A88E6-4B57-4361-B898-17641176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EACFD-2CFF-4145-B1D3-BC7EDA8E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78618B-83A5-4F6B-89AB-4AAB1F8B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2632DA-6FDA-4965-BD9D-C01F85D3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7F4D3-E173-4558-AE82-E7D54D3E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8DE48-DA46-4821-9610-6125BC3A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A884-70FF-41DA-B9A9-DDF57D5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4771B-FB12-4FD5-AFAB-B622051F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414FD7-3288-46BB-8E61-8849B1C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12CCF-5677-4E71-BC97-4738E08D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D7AFB-A1BE-40EB-A274-124802F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DAB540-A1E8-41F4-95C3-3CB12A0F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EBF51-6DD4-4B8E-8397-2A96FA49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393DC-D45F-42FD-AF20-DB082754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DBAB5-0CD7-4477-A9C3-B4144F86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022D8-9987-4D3D-8376-97C1B11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EF627-31FE-4E7C-B789-ABA570CA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8E46-6E0C-4806-AFA1-A2A5A546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46073-B951-4048-8F7F-D9A8018F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C9B731-A04A-4507-A994-9B184D82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3611F-7021-468F-9AF4-1FD5F8B7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79C69-364F-4171-8E8F-B8A68A6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52407-4DD2-479A-AC7F-46937CC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31EC1-2228-451F-8652-102FB97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FAEFC-97E6-44EF-ABD8-04CF7B3C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506FF-61FA-411F-AB61-56694CB5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A5229-609E-4263-A82E-19D01082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01599-222A-4963-A129-CBFC9BDC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0B64-1DBA-437E-85AC-B8108518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F9000D-4269-41E8-88F3-1BFED8BD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33BF4-0886-4209-A86F-7A31ED9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F7677-F8B3-4633-AB98-062E3A46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C0832-C873-4C13-BF6E-03C5F05A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169CDE-4ACD-41B7-9B60-C5CCF22A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00465-A62D-46A6-9E49-CE94DA0C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154CD2-A73C-4F0E-8E42-D75D1E80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5FBEE-B1A4-449C-BA9E-C3A7631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2410D1-C696-4E21-95C6-BD3E9C70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F9A82-52A5-46BC-9696-972A8A51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9A34-D2E0-427E-A656-9ACB0C51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04494-944D-4D86-9D20-65E41027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553DC-A568-46D9-9D9C-F38592E0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98204-848F-44F9-A57A-F575E109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A528E4-C67E-462B-A232-A21EA1B3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584ED5-14CB-407B-AC93-833954CD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3C9FBB-2195-4355-897C-FA479352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876421-6782-4DD3-9549-1F78B6FB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2C482B-69A8-4D5A-AA9D-99A526DD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896849-7795-47EA-820A-C496C7F9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056FDC-0421-4F66-BBD8-978A47D3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F045-AA14-4BCB-8F3A-27D3E85A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7E22A-39FA-4908-B01F-275B0333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493FD2-57B9-40A3-BA74-C9FF089A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E9C569-D9EB-43CB-BF6E-87A92FFC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9FB9-841D-474D-858E-B890C46C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8559-1F70-4DFA-B9BB-1554B16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66E6-DE5D-4F5A-80CD-BFD5943C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F1C5-F57C-4A3B-BFB3-CC25AD5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79A-5522-4AD3-B00E-13F53EE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146F-9E3C-46C5-A4AE-0DDCF938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0FBF-86C0-4322-A134-4800A37E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16C8-52DF-44E1-9AAE-6344805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E7BB-5F6C-42CF-8CD7-7157D55E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4531-D79A-4614-AF5A-620C1FEF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D351-B97B-4D91-A8BE-B071E364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34E5-D86E-4F76-A975-DB764354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B30F-A67C-452F-81F1-1B281353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B79B-119E-49B7-B50E-606BB858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51E3-D43A-405C-AD96-87BB825F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91D-07B4-47D5-B1F3-BC139747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7779-5366-45F0-A947-FD773AB4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FDAA-779C-436F-966A-9F5273D5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AB532-160B-441E-88B9-E9FC5441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E480-02F1-42A6-9775-EDD7A6F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8B84-EE81-422C-A7B4-5675BE4B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F548-03A2-45C2-A9BD-85DB17B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02AC-6A11-45D8-9D33-4E97973C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6D6B-449C-4D6A-B66F-D853BB11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A0DF-2E72-484A-9ED5-FCBB79BD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97123-1151-4B19-94EC-B2156D6D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D5D-7025-4A26-B67A-EC2A251D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96E9-9EB8-4934-86BE-84C381A7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5694D-A919-4D40-8993-B168D11C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0399-F5F2-45A4-8707-87088EF6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A6BBB-0BC5-4D44-8EF5-0984128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AC13E-C31E-4F47-B66A-A2241886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5C46-0AB1-4CBF-838A-7EA17BE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787B7-163E-4862-A494-9E6AE9E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A339-9D0E-4D9D-97E3-E80AE9A7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7CF9-BD7F-4C10-897C-40A2EFEE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65C3-8E5E-4F9A-8E25-34466DC2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573-941B-4BAA-9BE3-87BE1791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B522-8ECD-41CC-9197-80F5C3D5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F5BA2-F429-46CD-B564-244FFCFD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F885E-87E7-462D-BBC8-70A845C8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8941B-BB5D-493A-ABD4-09207D8F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DF1D1-7C21-4F69-871F-E40BF3D1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F9168-8926-4BD8-BF44-A88D9E23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A591-76F7-485E-93C6-430A492C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7B44B-DAE7-4BB4-94DA-C48518E8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04524-7536-4123-B4A8-E7FA2D9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3903-B923-46CE-8B62-B2915818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81E-FFE3-4E98-9159-13FAF56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7195D-A332-4E80-AFF3-219D0DE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3E726-02E7-41A7-8703-589CC0E3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895FF-ED58-4CA8-8FEF-089D6814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CEF5-1B50-4541-9C50-B30664D9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FF2B5-05D0-428E-B37B-632DEACF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66108-3934-4B30-B6D4-93A93363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55C00-A80F-42E0-863D-4D0E32A1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C25F8-13E2-4563-A827-CF5142AD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58CF2-E2E3-4177-A902-1615E78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A4D7D-0467-46F3-816D-9755A250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DB0-79B2-4180-AC96-13C8FFB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8F09D-31A0-4C48-BBD3-0E0C334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2F2D8-ECBB-48EF-9342-E08C1587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43B8-F8DD-4DD0-B2C3-C409489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A4041-46F9-4ACC-A7F5-4B92E816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59433-1666-43CD-88A1-0CE1B2B7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84A16-E613-4C08-B674-1614B6E6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0E84F-309E-4055-8E28-5200AAA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9D570-6331-4C6C-BDD0-E88B089A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899B4-5157-41F3-A0F6-F6188C95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AF296-2204-46B0-9CD8-83099F8C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461-EFCC-4942-89DD-6A27CF6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B10E3-50CD-4D62-846F-DC72542A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A326-2999-4C74-9489-FDD1E20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9D044-9877-4811-AF48-8A018717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572E4-3F58-4D96-94A8-9AD7C56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3577F-6382-449F-BAB2-253AE844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148C3-730D-4413-995C-3EBF50DE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3E666-6ECC-4C97-9FB2-B1F184CD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367DF-E804-46BC-AA4E-F826DF8C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8461A-D100-4184-A324-3391FAE4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8B655-F365-411D-83CE-7E969E6E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3A44-7C59-4E12-A4F6-4FB669721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26AE-EEA7-4686-A57A-E75A730A5D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212A-424E-4EF5-9819-0EEC1099B1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3DD0-1E14-4E1A-9549-0D07A6695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14CE-890C-48C8-991F-04A3A5D650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AA5-C90C-40D7-BD29-F0755FBC61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4975-25F0-420E-81EC-AA7E0EE1E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9FAB-7BF9-483E-BD97-A6BCACC992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5273-13A4-4077-980D-C276D5541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5D9D-8E4E-4DFB-96BA-C055DE3105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A62E-515A-4F1E-A5D9-D8BB7E59A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CC28-8CA3-4F06-B973-C39BE15B74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E59-CE88-4008-8E8F-FB919DC6F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12E4-2B5C-44C4-B85F-59196CFC9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999E-88D9-4A76-8282-8C058C7FAE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203D-CF6E-45DC-B41B-EFB0DC8A5B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7837-D6FE-4F4F-AE45-25506D0B28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5745-A890-4DBF-B5FE-CFD58A336D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211-0DCA-4CC8-9972-924C1E0E0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CB23-A872-4F18-933A-6A35EEF475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3D57-26CB-4B79-ACAF-76FAA3D5B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9CE2-D63C-460A-B7DB-EEB3241709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1AD4-5583-453B-8263-D15981F7BB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BCB4-278D-4A13-9014-B7D850C6A7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630C-1DE2-4236-B897-521F5C4AD9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0835-EEF2-4AA3-9D2B-C60C6303E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98F9-CA4B-4C5D-88CA-EFACF25B78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CBB2-C95C-47C2-BF02-D78375F76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8F74-B430-47FA-B122-B8E1039A79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4DBA-24D8-4AF9-985D-8D66EF7249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635-1B84-4F19-8F1A-12330EAF1D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3BA2-C52B-4252-90C6-E0EFFFB615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429E-5AD8-42FE-82F9-4A51F6E5D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2A98-C4D2-4E16-A23F-B03B855A6F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8FF9-62A2-4BC7-AB67-FCDB36687E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B2BD-B2FA-47EC-A066-C6D6726C7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D38E-DC8A-428D-A06A-6DA98876EE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7AA3-B4DE-4142-A984-8CE859B534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ECB3-9D2A-42F9-8572-1766CEEFA3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A975-2B35-4FCB-AB4E-0D1A78A00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747800" y="3052800"/>
            <a:ext cx="56484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0" y="1138320"/>
            <a:ext cx="9144000" cy="4600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642960" y="14335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611280" y="176688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663480" y="2127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63480" y="24415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663480" y="27748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900000" y="4862520"/>
            <a:ext cx="287280" cy="2952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2432160" y="4869000"/>
            <a:ext cx="288720" cy="293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4067280" y="4869000"/>
            <a:ext cx="288720" cy="293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5651640" y="4869000"/>
            <a:ext cx="288720" cy="29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7256520" y="4869000"/>
            <a:ext cx="28872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185760" y="1062000"/>
            <a:ext cx="8772480" cy="5010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87280" cy="293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755640" y="24145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755640" y="3351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5"/>
          <a:stretch/>
        </p:blipFill>
        <p:spPr>
          <a:xfrm>
            <a:off x="765000" y="4292640"/>
            <a:ext cx="289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0" y="2000160"/>
            <a:ext cx="9153360" cy="2857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3"/>
          <a:stretch/>
        </p:blipFill>
        <p:spPr>
          <a:xfrm>
            <a:off x="611280" y="270360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4"/>
          <a:stretch/>
        </p:blipFill>
        <p:spPr>
          <a:xfrm>
            <a:off x="611280" y="2997360"/>
            <a:ext cx="288720" cy="293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5"/>
          <a:stretch/>
        </p:blipFill>
        <p:spPr>
          <a:xfrm>
            <a:off x="611280" y="3351240"/>
            <a:ext cx="288720" cy="293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6"/>
          <a:stretch/>
        </p:blipFill>
        <p:spPr>
          <a:xfrm>
            <a:off x="622440" y="366552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5:4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